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7B1F-0419-432C-9542-FE057D9E1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AC19-94B7-4A36-8F64-718926DC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12FC-2D70-458D-BE48-C016B66C6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8600-0DB1-454A-A18E-28BE62C15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12DF-448B-44F2-9B07-9ACB5389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6C9B-F0FF-47EC-BEF5-E275CB45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3720-1B47-401A-957F-ABFB1A8F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8686-E23A-4C14-814C-C29C975A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D002-B796-4EC6-B71C-7C04AEF9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09CA-6CF6-4371-B5F8-611C3344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8112-CD30-4A86-BEE9-92589735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E3E1-D07E-4124-9215-87E5D8FB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EBCC-814A-4FE8-AB3B-0C79D1F95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3440" y="101520"/>
            <a:ext cx="6477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sentials of Human Anatomy &amp; Physiolo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7248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67280" y="712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8794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laine N. Mari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362320"/>
            <a:ext cx="6858000" cy="17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Times New Roman"/>
              </a:rPr>
              <a:t>Chapter 6</a:t>
            </a:r>
            <a:br>
              <a:rPr sz="48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Muscular System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3124080"/>
            <a:ext cx="510552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76320"/>
            <a:ext cx="152640" cy="10666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609480"/>
            <a:ext cx="723888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Function of Muscl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2092320"/>
            <a:ext cx="8305920" cy="27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oduce move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aintain postur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abilize joi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enerate he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80880" y="304920"/>
            <a:ext cx="838224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Microscopic Anatomy of Skeletal</a:t>
            </a:r>
            <a:br>
              <a:rPr sz="4100"/>
            </a:b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Muscl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9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1981080"/>
            <a:ext cx="8245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lls are multinucleat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uclei are just beneath the sarcolemm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0" r="0" b="9032"/>
          <a:stretch/>
        </p:blipFill>
        <p:spPr>
          <a:xfrm>
            <a:off x="2286000" y="3809880"/>
            <a:ext cx="4738680" cy="2581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172200" y="612612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3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304920"/>
            <a:ext cx="838224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Microscopic Anatomy of Skeletal</a:t>
            </a:r>
            <a:br>
              <a:rPr sz="4100"/>
            </a:b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Muscl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9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1523880"/>
            <a:ext cx="8245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arcolemma – specialized plasma membran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arcoplasmic reticulum – specialized smooth endoplasmic reticulu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0" r="0" b="9032"/>
          <a:stretch/>
        </p:blipFill>
        <p:spPr>
          <a:xfrm>
            <a:off x="2286000" y="3809880"/>
            <a:ext cx="4738680" cy="2581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172200" y="612612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3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304920"/>
            <a:ext cx="838224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Microscopic Anatomy of Skeletal Muscl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10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628640"/>
            <a:ext cx="8382240" cy="40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yofibri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ndles of myofilam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yofibrils are aligned to give distrinct ba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band =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ght b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band =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rk b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0" t="0" r="0" b="8340"/>
          <a:stretch/>
        </p:blipFill>
        <p:spPr>
          <a:xfrm>
            <a:off x="3733920" y="3871800"/>
            <a:ext cx="5094000" cy="2398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209680" y="604980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80880" y="304920"/>
            <a:ext cx="838224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Microscopic Anatomy of Skeletal Muscl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10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2057400"/>
            <a:ext cx="82454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arcomer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actile unit of a muscle fib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0" b="8340"/>
          <a:stretch/>
        </p:blipFill>
        <p:spPr>
          <a:xfrm>
            <a:off x="3733920" y="3871800"/>
            <a:ext cx="5094000" cy="23986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209680" y="604980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304920"/>
            <a:ext cx="838224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Microscopic Anatomy of Skeletal Muscl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11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1600200"/>
            <a:ext cx="824544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rganization of the sarcomer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ck filaments = myosin filam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osed of the protein myos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s ATPase enzym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11644"/>
          <a:stretch/>
        </p:blipFill>
        <p:spPr>
          <a:xfrm>
            <a:off x="1676520" y="4038480"/>
            <a:ext cx="6097320" cy="22068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80880" y="601992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3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0880" y="304920"/>
            <a:ext cx="838224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Microscopic Anatomy of Skeletal Muscl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1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1676520"/>
            <a:ext cx="8610840" cy="17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rganization of the sarcomer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n filaments = actin filam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osed of the protein act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1644"/>
          <a:stretch/>
        </p:blipFill>
        <p:spPr>
          <a:xfrm>
            <a:off x="1676520" y="4038480"/>
            <a:ext cx="6097320" cy="2206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80880" y="601992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3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880" y="304920"/>
            <a:ext cx="838224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Microscopic Anatomy of Skeletal Muscl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12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905120"/>
            <a:ext cx="8245440" cy="26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yosin filaments have heads (extensions, or cross bridges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yosin an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tin overlap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mewh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0" r="0" b="7458"/>
          <a:stretch/>
        </p:blipFill>
        <p:spPr>
          <a:xfrm>
            <a:off x="4191120" y="3352680"/>
            <a:ext cx="4844880" cy="28958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476440" y="601992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80880" y="304920"/>
            <a:ext cx="838224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Properties of Skeletal Muscle Activity (single cells or fibers)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2590920"/>
            <a:ext cx="8245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rritability – ability to receive and respond to a stimulu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tractility – ability to shorten when an adequate stimulus is receiv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Nerve Stimulus to Muscl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990720"/>
            <a:ext cx="3657600" cy="52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keletal muscles must be stimulated by a nerve to contract (motor neruron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tor uni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neur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scle cells stimulated by that neur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0" t="0" r="0" b="2920"/>
          <a:stretch/>
        </p:blipFill>
        <p:spPr>
          <a:xfrm>
            <a:off x="4114800" y="1371600"/>
            <a:ext cx="4896000" cy="48164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086600" y="594360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he Muscular System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143000"/>
            <a:ext cx="8245440" cy="51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uscles are responsible for all types of body movement – they contract or shorten and are the machine of the bod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ree basic muscle types are found in the bod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keletal musc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diac musc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mooth musc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Nerve Stimulus to Muscl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15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2682720"/>
            <a:ext cx="3505320" cy="24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euromuscular junctions – association site of nerve and musc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0" t="0" r="0" b="5947"/>
          <a:stretch/>
        </p:blipFill>
        <p:spPr>
          <a:xfrm>
            <a:off x="4419720" y="2286000"/>
            <a:ext cx="4548240" cy="30574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495680" y="571500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5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Nerve Stimulus to Muscl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15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1447920"/>
            <a:ext cx="3886200" cy="48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ynaptic cleft – gap between nerve and musc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rve and muscle do not make conta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a between nerve and muscle is filled with interstitial flui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0" b="5947"/>
          <a:stretch/>
        </p:blipFill>
        <p:spPr>
          <a:xfrm>
            <a:off x="4419720" y="2286000"/>
            <a:ext cx="4548240" cy="3057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7086600" y="594360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5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0880" y="304920"/>
            <a:ext cx="838224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ransmission of Nerve Impulse to Muscl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16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1782720"/>
            <a:ext cx="8245440" cy="44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eurotransmitter – chemical released by nerve upon arrival of nerve impul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eurotransmitter for skeletal muscle is acetylcholi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eurotransmitter attaches to receptors on the sarcolemm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arcolemma becomes permeable to sodium (Na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880" y="304920"/>
            <a:ext cx="838224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ransmission of Nerve Impulse to Muscl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16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2590920"/>
            <a:ext cx="8245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dium rushing into the cell generates an action potentia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nce started, muscle contraction cannot be stopp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0880" y="304920"/>
            <a:ext cx="838224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he Sliding Filament Theory of Muscle Contrac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17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1905120"/>
            <a:ext cx="4419720" cy="45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tivation by nerve causes myosin heads (crossbridges) to attach to binding sites on the thin fila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yosin heads then bind to the next site of the thin fila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2920"/>
          <a:stretch/>
        </p:blipFill>
        <p:spPr>
          <a:xfrm>
            <a:off x="5257800" y="1447920"/>
            <a:ext cx="3583080" cy="47242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257800" y="632448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0880" y="304920"/>
            <a:ext cx="838224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he Sliding Filament Theory of Muscle Contrac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17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2057400"/>
            <a:ext cx="449604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s continued action causes a sliding of the myosin along the acti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result is that the muscle is shortened (contracted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rcRect l="0" t="0" r="0" b="2920"/>
          <a:stretch/>
        </p:blipFill>
        <p:spPr>
          <a:xfrm>
            <a:off x="5257800" y="1447920"/>
            <a:ext cx="3583080" cy="47242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257800" y="632448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he Sliding Filament Theory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0" t="0" r="0" b="43735"/>
          <a:stretch/>
        </p:blipFill>
        <p:spPr>
          <a:xfrm>
            <a:off x="228600" y="1600200"/>
            <a:ext cx="8763120" cy="23605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66760" y="586728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0" t="0" r="0" b="81056"/>
          <a:stretch/>
        </p:blipFill>
        <p:spPr>
          <a:xfrm>
            <a:off x="2362320" y="4267080"/>
            <a:ext cx="468612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Contraction of a Skeletal Muscl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1066680"/>
            <a:ext cx="824544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uscle fiber contraction is “all or none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ithin a skeletal muscle, not all fibers may be stimulated during the same interva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fferent combinations of muscle fiber contractions may give differing respons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raded responses – different degrees of skeletal muscle shortening, rapid stimulus = constant contraction or tetanu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Muscle Response to Strong Stimuli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2055960"/>
            <a:ext cx="8245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uscle force depends upon the number of fibers stimulat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re fibers contracting results in greater muscle ten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uscles can continue to contract unless they run out of energ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Energy for Muscle Contrac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1828800"/>
            <a:ext cx="8245440" cy="39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itially, muscles used stored ATP for energ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nds of ATP are broken to release energ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ly 4-6 seconds worth of ATP is stored by musc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fter this initial time, other pathways must be utilized to produce ATP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Characteristics of Muscl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417680"/>
            <a:ext cx="8245440" cy="49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uscle cells are elongat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(muscle cell = muscle fiber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traction of muscles is due to the movement of microfilame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ll muscles share some terminolog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fix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y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efers to musc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fix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y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efers to musc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fix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arc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efers to fles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Energy for Muscle Contrac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1417680"/>
            <a:ext cx="5639040" cy="50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rect phosphoryl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749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cle cells contain creatine phosphate (C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80000"/>
              </a:lnSpc>
              <a:spcAft>
                <a:spcPts val="1749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 is a high-energy molec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749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ATP is depleted, ADP is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749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 transfers energy to ADP, to regenerate A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749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 supplies are exhausted in about 20 sec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0" t="0" r="68404" b="3364"/>
          <a:stretch/>
        </p:blipFill>
        <p:spPr>
          <a:xfrm>
            <a:off x="6095880" y="1081080"/>
            <a:ext cx="2748240" cy="53960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6134040" y="643104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1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Energy for Muscle Contrac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26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1676520"/>
            <a:ext cx="4953240" cy="45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aerobic glycolysi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ction that breaks down glucose without oxyg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ucose is broken down to pyruvic acid to produce some AT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yruvic acid is converted to lactic aci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905440" y="643104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10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rcRect l="32042" t="0" r="35731" b="3364"/>
          <a:stretch/>
        </p:blipFill>
        <p:spPr>
          <a:xfrm>
            <a:off x="5994360" y="1066680"/>
            <a:ext cx="27687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Energy for Muscle Contrac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26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828800"/>
            <a:ext cx="49532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aerobic glycolysis (continued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reaction is not as efficient, but is fas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uge amounts of glucose are need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ctic acid produces muscle fatig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32042" t="0" r="35731" b="3364"/>
          <a:stretch/>
        </p:blipFill>
        <p:spPr>
          <a:xfrm>
            <a:off x="5994360" y="1066680"/>
            <a:ext cx="2768760" cy="53341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5905440" y="643104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10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Energy for Muscle Contrac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880" y="1371600"/>
            <a:ext cx="518184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erobic  Respir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ies of metabolic pathways that occur in the mitochondr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ucose is broken down to carbon dioxide and water, releasing energ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is a slower reaction that requires continuous oxyg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43600" y="635472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10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rcRect l="64528" t="0" r="-7" b="3364"/>
          <a:stretch/>
        </p:blipFill>
        <p:spPr>
          <a:xfrm>
            <a:off x="6019920" y="1066680"/>
            <a:ext cx="30477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Muscle Fatigue and Oxygen Deb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1371600"/>
            <a:ext cx="86108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001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muscle is fatigued, it is unable to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001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mon reason for muscle fatigue is oxygen de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xygen must be “repaid” to tissue to remove oxygen deb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xygen is required to get rid of accumulated lactic aci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001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acidity (from lactic acid) and lack of ATP causes the muscle to contract 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ypes of Muscle Contraction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1752480"/>
            <a:ext cx="8245440" cy="40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sotonic contrac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yofilaments are able to slide past each other during contrac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uscle short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sometric contrac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nsion in the muscles increa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uscle is unable to short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Muscle Ton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0880" y="2057400"/>
            <a:ext cx="8245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me fibers are contracted even in a relaxed musc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fferent fibers contract at different times to provide muscle ton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process of stimulating various fibers is under involuntary contro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Muscles and Body Movement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30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0880" y="2590920"/>
            <a:ext cx="3733920" cy="24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vement is attained due to a muscle moving an attached bon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rcRect l="0" t="0" r="0" b="3522"/>
          <a:stretch/>
        </p:blipFill>
        <p:spPr>
          <a:xfrm>
            <a:off x="4648320" y="1752480"/>
            <a:ext cx="4179600" cy="42674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4648320" y="609588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Muscles and Body Movement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30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1752480"/>
            <a:ext cx="4038840" cy="44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uscles are attached to at least two poi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igin – attachment to a moveable bo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sertion – attachment to an immovable bo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rcRect l="0" t="0" r="0" b="3522"/>
          <a:stretch/>
        </p:blipFill>
        <p:spPr>
          <a:xfrm>
            <a:off x="4648320" y="1752480"/>
            <a:ext cx="4179600" cy="426744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4648320" y="609588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Effects of Exercise on Muscl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2209680"/>
            <a:ext cx="8245440" cy="31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sults of increased muscle 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 in muscle siz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 in muscle strengt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 in muscle efficienc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scle becomes more fatigue resista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Skeletal Muscle Characterist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766880"/>
            <a:ext cx="8245440" cy="44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st are attached by tendons to bon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lls are multinucleat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riated – have visible band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oluntary – subject to conscious contro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lls are surrounded and bundled by connective tissue = great force, but tires easil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80880" y="304920"/>
            <a:ext cx="8382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ypes of Ordinary Body Movement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0880" y="2133720"/>
            <a:ext cx="8245440" cy="44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lexion – decreases angle of joint and brings two bones closer togeth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tension- opposite of flex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otation- movement of a bone in longitudinal axis, shaking head “no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bduction/Adduction (see slides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ircumduction (see slides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Body Movement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3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rcRect l="0" t="0" r="0" b="2920"/>
          <a:stretch/>
        </p:blipFill>
        <p:spPr>
          <a:xfrm>
            <a:off x="1028880" y="1219320"/>
            <a:ext cx="7086600" cy="51512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80880" y="604980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2666880" cy="31240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40370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505320" y="762120"/>
            <a:ext cx="1752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: Abduction – moving the leg away from the mid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629400" y="449568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ve – Adduction- moving toward the mid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04920" y="41911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4038480" y="2666880"/>
            <a:ext cx="2279880" cy="36385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762120" y="4114800"/>
            <a:ext cx="29718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mduction: cone-shaped movement, proximal end doesn’t move, while distal end moves in a cir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ypes of Muscl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0880" y="1523880"/>
            <a:ext cx="8245440" cy="35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ime mover – muscle with the major responsibility for a certain move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tagonist – muscle that opposes or reverses a prime mov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ynergist – muscle that aids a prime mover in a movement and helps prevent ro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Naming of Skeletal Muscl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36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0880" y="2438280"/>
            <a:ext cx="8245440" cy="26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rection of muscle fib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ctu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straight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lative size of the musc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aximu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largest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Naming of Skeletal Muscl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36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0880" y="2209680"/>
            <a:ext cx="824544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ocation of the musc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ample: many muscles are named for bones (e.g.,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temporali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umber of origi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tricep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(three heads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Naming of Skeletal Muscl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0880" y="1417680"/>
            <a:ext cx="8245440" cy="48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ocation of the muscles origin and inser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tern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on the sternu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hape of the musc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eltoi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triangular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tion of the musc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lex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xtensor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flexes or extends a bon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Head and Neck Muscl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0880" y="1417680"/>
            <a:ext cx="824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rcRect l="0" t="0" r="0" b="2920"/>
          <a:stretch/>
        </p:blipFill>
        <p:spPr>
          <a:xfrm>
            <a:off x="1219320" y="1143000"/>
            <a:ext cx="6705360" cy="51926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1181160" y="604980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500"/>
                            </p:stCondLst>
                            <p:childTnLst>
                              <p:par>
                                <p:cTn id="5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Trunk Muscl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0880" y="1417680"/>
            <a:ext cx="824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rcRect l="0" t="0" r="0" b="4141"/>
          <a:stretch/>
        </p:blipFill>
        <p:spPr>
          <a:xfrm>
            <a:off x="380880" y="1371600"/>
            <a:ext cx="8356680" cy="47163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380880" y="617220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5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Deep Trunk and Arm Muscl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0880" y="1417680"/>
            <a:ext cx="824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rcRect l="0" t="0" r="0" b="3596"/>
          <a:stretch/>
        </p:blipFill>
        <p:spPr>
          <a:xfrm>
            <a:off x="291960" y="1371600"/>
            <a:ext cx="8560080" cy="472428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304920" y="617220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500"/>
                            </p:stCondLst>
                            <p:childTnLst>
                              <p:par>
                                <p:cTn id="6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304920"/>
            <a:ext cx="838224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Connective Tissue Wrappings of</a:t>
            </a:r>
            <a:br>
              <a:rPr sz="4100"/>
            </a:b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Skeletal Muscl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4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2133720"/>
            <a:ext cx="3581640" cy="40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ndomysium – around single muscle fib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erimysium – around a fascicle (bundle) of fib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0" r="0" b="2920"/>
          <a:stretch/>
        </p:blipFill>
        <p:spPr>
          <a:xfrm>
            <a:off x="4700520" y="1219320"/>
            <a:ext cx="4270320" cy="5181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505640" y="594360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380880" y="304920"/>
            <a:ext cx="86108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Muscles of the Pelvis, Hip, and Thig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4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0880" y="1417680"/>
            <a:ext cx="824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2355840" y="990720"/>
            <a:ext cx="4430880" cy="54864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2400480" y="6202440"/>
            <a:ext cx="140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18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Muscles of the Lower Leg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4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0880" y="1417680"/>
            <a:ext cx="824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rcRect l="0" t="0" r="0" b="2920"/>
          <a:stretch/>
        </p:blipFill>
        <p:spPr>
          <a:xfrm>
            <a:off x="1971720" y="1219320"/>
            <a:ext cx="5199120" cy="52578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1981080" y="620244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Superficial Muscles: Anterior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0880" y="1417680"/>
            <a:ext cx="824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rcRect l="0" t="0" r="0" b="4330"/>
          <a:stretch/>
        </p:blipFill>
        <p:spPr>
          <a:xfrm>
            <a:off x="2082960" y="990720"/>
            <a:ext cx="4978080" cy="54864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2171880" y="6126120"/>
            <a:ext cx="140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500"/>
                            </p:stCondLst>
                            <p:childTnLst>
                              <p:par>
                                <p:cTn id="6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Superficial Muscles: Posterior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0880" y="1417680"/>
            <a:ext cx="824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2133720" y="990720"/>
            <a:ext cx="4911480" cy="54864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2209680" y="61261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500"/>
                            </p:stCondLst>
                            <p:childTnLst>
                              <p:par>
                                <p:cTn id="6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orders relating to the Muscular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cular Dystrophy:  inherited, muscle enlarge due to increased fat and connective tissue, but fibers degenerate and atr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chenne MD:  lacking a protein to maintain the sarcolem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asthemia Gravis:  progressive weakness due to a shortage of acetylcholine recep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80880" y="304920"/>
            <a:ext cx="838224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Connective Tissue Wrappings of</a:t>
            </a:r>
            <a:br>
              <a:rPr sz="4100"/>
            </a:b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Skeletal Muscl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4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2209680"/>
            <a:ext cx="358164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pimysium – covers the entire skeletal musc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ascia – on the outside of the epimysiu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0" t="0" r="0" b="2920"/>
          <a:stretch/>
        </p:blipFill>
        <p:spPr>
          <a:xfrm>
            <a:off x="4700520" y="1219320"/>
            <a:ext cx="4270320" cy="5181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505640" y="594360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Skeletal Muscle Attachment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1523880"/>
            <a:ext cx="8245440" cy="46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pimysium blends into a connective tissue attach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ndon – cord-like struct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oneuroses – sheet-like struct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tes of muscle attach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til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nective tissue coverin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Smooth Muscle Characterist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990720"/>
            <a:ext cx="3962520" cy="56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001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no st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001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ndle-shaped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001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nucl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001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untary – no conscious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001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mainly in the walls of hollow org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001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, sustained and tire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0" r="50762" b="3948"/>
          <a:stretch/>
        </p:blipFill>
        <p:spPr>
          <a:xfrm>
            <a:off x="4794120" y="1600200"/>
            <a:ext cx="4044960" cy="4419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800600" y="609588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Cardiac Muscle Characterist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6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1066680"/>
            <a:ext cx="3962520" cy="52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001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st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001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has a single nucl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001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ed to another muscle cell at an intercalated dis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001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un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001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only in the he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001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ady pac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56584" t="9934" r="-2030" b="3948"/>
          <a:stretch/>
        </p:blipFill>
        <p:spPr>
          <a:xfrm>
            <a:off x="5029200" y="1523880"/>
            <a:ext cx="3733920" cy="3962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105520" y="5715000"/>
            <a:ext cx="14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6.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6:42:38Z</dcterms:created>
  <dc:creator>Hawkeye Community College</dc:creator>
  <dc:description/>
  <dc:language>en-US</dc:language>
  <cp:lastModifiedBy>Administrator</cp:lastModifiedBy>
  <dcterms:modified xsi:type="dcterms:W3CDTF">2004-05-10T15:50:11Z</dcterms:modified>
  <cp:revision>18</cp:revision>
  <dc:subject/>
  <dc:title>PowerPoint Presentation</dc:title>
</cp:coreProperties>
</file>